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6C6-0FFA-48CC-8458-C4C4BEFA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917-75DA-4500-9477-850C611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5B7-3699-4248-B547-7A0BB7F7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884-04C9-429B-B837-ACD6DB5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08A6-568E-410A-BC49-1C6B2DB5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E34-FEAA-4CFE-ACF3-8CF79DA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339-C0E3-45A7-A17B-0539B56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DEF8-51B4-435B-B36C-FC23FCD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707-3755-4B04-8917-BDF64CE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764-D732-4EB8-B0B8-21288AD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66D0-8696-4D6F-8C41-F5B4E29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75B-5F39-4649-81EC-BDB8B529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F2D-84EC-4287-A417-463151B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777-865D-4C54-B3F6-692EE39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654-2F72-473D-A806-C5508829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C1D-4A6B-4DFD-8A24-4961FC10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E3E1-0B6A-4B1A-BCAD-75E137E5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B26-CB1A-435D-806E-3E89503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C1F-51D7-475D-952E-51AC0C6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4D6-D5A4-4CD8-A8F5-0277788A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8F2-A54A-4836-A075-8FA1B06F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C74-3FCB-46E9-967F-4291195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AE1-D533-48CF-B632-64595E1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238-2D1D-4851-A0C4-CD7859A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42C-9025-49A2-BCB4-DE2E8BAA48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58B8-B401-4907-9E59-3A9A973976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ffffff"/>
                </a:solidFill>
                <a:latin typeface="Times New Roman"/>
              </a:rPr>
              <a:t>Chek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By: Bing Bing Guo, Clara Duncan, Kate Jev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Begining of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ka was created in December 1917, a short while after the Bolsheviks had seized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in appointed Felix Dzerzhinsky as the head of the Cheka which was also know as the All-Russian Extraordinary Commission for Combating Counter-Revolution and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ka was Lenin’s (or the Bolsheviks) secret police, but later changed into the Soviet secret pol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What Does the Cheka Do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main goals of the Cheka was to locate any type of treason and eliminate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investigated and eliminated all actions or attempts connected with counter-revolution or sabotage, no matter where or whom it came fro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of the saboteurs and counter revolutionaries caught were not given trials, and the Cheka was given permission to fight them using what ever kind of force they deemed necessary. </a:t>
            </a: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pril 1918 the Cheka set up its own three man court called the troika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troikas gave the Cheka more power such as; the power to perform investigation, arrest, interrogation, prosecution, trial, and the power to carry out the death penalt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ter that summer the increase of the Chekas activities initiated the Red Terror which led up until the war.</a:t>
            </a: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ter the attempted assassination of Lenin and the successful assassination of the German ambassador, the Cheka by members of the Left Social Revolutionaries  the Cheka became busier then ev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initiated a period of mass executions of people not only based on sabotage, but their beliefs and class origins to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heka executed 350 Social Revolutionaries and shot 512 hostages dude to the successful assassination of the German ambassador and the attempted assassination of Lenin.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Che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heka also initiated slave labor camps and not only imprisoned the undesirables but also the bourgeoisie (middle class citizens)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were  also known to practice torture on their prisone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heka had various names, and was later known as the KGB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were formally abolished in 1922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6:05:57Z</dcterms:created>
  <dc:creator>gjj</dc:creator>
  <dc:description/>
  <dc:language>en-US</dc:language>
  <cp:lastModifiedBy>gjj</cp:lastModifiedBy>
  <dcterms:modified xsi:type="dcterms:W3CDTF">2007-11-12T09:33:29Z</dcterms:modified>
  <cp:revision>7</cp:revision>
  <dc:subject/>
  <dc:title>Cheka</dc:title>
</cp:coreProperties>
</file>